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6F7-0ECE-4033-B501-3E8D50E7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79D-9134-46F0-8B0D-ED96B01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750-1CCB-4BDF-9AE4-1DADC26D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A63-7195-4720-A5EF-1348A9F4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49C-294C-4F86-9532-CC8F09D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7B7-19DE-46EF-8E9A-1AA258E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56B-A3FA-407D-9104-E79CE3BF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31B-209C-4C6F-A73A-D202E847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B8D-4340-46D0-B0E1-C1AAFA81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BB5-4BEE-403F-A92A-426C0D1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652-2884-43E3-8406-15CA314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C84-45D5-47F1-B997-F400C2E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78E9-6E3E-4F7F-8DD0-903F05622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600120" y="484200"/>
            <a:ext cx="8251920" cy="712800"/>
            <a:chOff x="600120" y="484200"/>
            <a:chExt cx="8251920" cy="712800"/>
          </a:xfrm>
        </p:grpSpPr>
        <p:sp>
          <p:nvSpPr>
            <p:cNvPr id="42" name="Text Box 4"/>
            <p:cNvSpPr/>
            <p:nvPr/>
          </p:nvSpPr>
          <p:spPr>
            <a:xfrm>
              <a:off x="1422000" y="612720"/>
              <a:ext cx="7430040" cy="58428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Вспоминаем то, что зна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Рисунок 5" descr="значки - думаю.jpg"/>
            <p:cNvPicPr/>
            <p:nvPr/>
          </p:nvPicPr>
          <p:blipFill>
            <a:blip r:embed="rId1"/>
            <a:stretch/>
          </p:blipFill>
          <p:spPr>
            <a:xfrm>
              <a:off x="600120" y="484200"/>
              <a:ext cx="72684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4"/>
          <p:cNvSpPr/>
          <p:nvPr/>
        </p:nvSpPr>
        <p:spPr>
          <a:xfrm>
            <a:off x="1389240" y="1550880"/>
            <a:ext cx="7462800" cy="65412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627120" y="1468440"/>
            <a:ext cx="700200" cy="7365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4"/>
          <p:cNvGrpSpPr/>
          <p:nvPr/>
        </p:nvGrpSpPr>
        <p:grpSpPr>
          <a:xfrm>
            <a:off x="682560" y="2665440"/>
            <a:ext cx="8169480" cy="714240"/>
            <a:chOff x="682560" y="2665440"/>
            <a:chExt cx="8169480" cy="714240"/>
          </a:xfrm>
        </p:grpSpPr>
        <p:sp>
          <p:nvSpPr>
            <p:cNvPr id="47" name="Text Box 4"/>
            <p:cNvSpPr/>
            <p:nvPr/>
          </p:nvSpPr>
          <p:spPr>
            <a:xfrm>
              <a:off x="1435320" y="2685600"/>
              <a:ext cx="7416720" cy="5994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6" descr="значки - идея.jpg"/>
            <p:cNvPicPr/>
            <p:nvPr/>
          </p:nvPicPr>
          <p:blipFill>
            <a:blip r:embed="rId3"/>
            <a:stretch/>
          </p:blipFill>
          <p:spPr>
            <a:xfrm>
              <a:off x="682560" y="2665440"/>
              <a:ext cx="7286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6" descr="значки.jpg"/>
          <p:cNvPicPr/>
          <p:nvPr/>
        </p:nvPicPr>
        <p:blipFill>
          <a:blip r:embed="rId4"/>
          <a:stretch/>
        </p:blipFill>
        <p:spPr>
          <a:xfrm>
            <a:off x="620640" y="47084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49280" y="4780080"/>
            <a:ext cx="7502760" cy="6429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значки - сравниваем с автором.jpg"/>
          <p:cNvPicPr/>
          <p:nvPr/>
        </p:nvPicPr>
        <p:blipFill>
          <a:blip r:embed="rId5"/>
          <a:stretch/>
        </p:blipFill>
        <p:spPr>
          <a:xfrm>
            <a:off x="534960" y="37656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389240" y="3860640"/>
            <a:ext cx="7462800" cy="5763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6"/>
          <p:cNvSpPr/>
          <p:nvPr/>
        </p:nvSpPr>
        <p:spPr>
          <a:xfrm>
            <a:off x="338040" y="1628640"/>
            <a:ext cx="8217000" cy="3529080"/>
          </a:xfrm>
          <a:prstGeom prst="roundRect">
            <a:avLst>
              <a:gd name="adj" fmla="val 16667"/>
            </a:avLst>
          </a:prstGeom>
          <a:solidFill>
            <a:srgbClr val="ffda8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468360" y="236232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искал, творил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нание новое откры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Научился примен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адания теперь легко мне 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9"/>
          <p:cNvSpPr/>
          <p:nvPr/>
        </p:nvSpPr>
        <p:spPr>
          <a:xfrm>
            <a:off x="324000" y="3714840"/>
            <a:ext cx="83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это за признак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сех ли слов он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определить род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5" descr="значок новая тема.jpg"/>
          <p:cNvPicPr/>
          <p:nvPr/>
        </p:nvPicPr>
        <p:blipFill>
          <a:blip r:embed="rId1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1279440"/>
            <a:ext cx="8150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6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6"/>
          <p:cNvSpPr/>
          <p:nvPr/>
        </p:nvSpPr>
        <p:spPr>
          <a:xfrm>
            <a:off x="428760" y="1230480"/>
            <a:ext cx="8215200" cy="7642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имена существительные. Какие из них называют мужчин, а какие женщин? Вы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8760" y="21430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, мама, сестра, папа, бабушка, сын, брат, внучка, дядя, тётя, прадедушка, прабабушка, мужчина,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143680" y="10000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857160" y="882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уж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88272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вн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те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же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357120" y="3643200"/>
            <a:ext cx="8001000" cy="1000080"/>
          </a:xfrm>
          <a:prstGeom prst="roundRect">
            <a:avLst>
              <a:gd name="adj" fmla="val 19972"/>
            </a:avLst>
          </a:prstGeom>
          <a:solidFill>
            <a:srgbClr val="ffe6b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ушевлённые имена существительные бывают мужского и жен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cs317520.userapi.com/v317520447/b84/kOL1escfTKw.jpg"/>
          <p:cNvPicPr/>
          <p:nvPr/>
        </p:nvPicPr>
        <p:blipFill>
          <a:blip r:embed="rId2"/>
          <a:stretch/>
        </p:blipFill>
        <p:spPr>
          <a:xfrm>
            <a:off x="3348000" y="3860640"/>
            <a:ext cx="2360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10"/>
          <p:cNvSpPr/>
          <p:nvPr/>
        </p:nvSpPr>
        <p:spPr>
          <a:xfrm>
            <a:off x="214200" y="1285920"/>
            <a:ext cx="8715600" cy="176976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. Это одушевлённые или неодушевлённые имена существительны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с помощью слов-подсказо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, 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е из них мужского рода, а какие женского. За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7120" y="33386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Колокольчик, польза, рассвет, окно, алфавит, язык, облако, суббота, поле, коллекция,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ь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pSp>
        <p:nvGrpSpPr>
          <p:cNvPr id="76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7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673360" y="836640"/>
            <a:ext cx="51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нский род запомню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кажу: «Она - мо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запомню род 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опять скажу: «Он -  м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ий род – оно, м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правило –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. Семё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оно мое - 0002.jpg"/>
          <p:cNvPicPr/>
          <p:nvPr/>
        </p:nvPicPr>
        <p:blipFill>
          <a:blip r:embed="rId1"/>
          <a:stretch/>
        </p:blipFill>
        <p:spPr>
          <a:xfrm>
            <a:off x="7407360" y="4438800"/>
            <a:ext cx="1438200" cy="1858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он мой.jpg"/>
          <p:cNvPicPr/>
          <p:nvPr/>
        </p:nvPicPr>
        <p:blipFill>
          <a:blip r:embed="rId2"/>
          <a:stretch/>
        </p:blipFill>
        <p:spPr>
          <a:xfrm>
            <a:off x="109440" y="1414440"/>
            <a:ext cx="2365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557280" y="2060640"/>
            <a:ext cx="7983360" cy="1268280"/>
          </a:xfrm>
          <a:prstGeom prst="roundRect">
            <a:avLst>
              <a:gd name="adj" fmla="val 16667"/>
            </a:avLst>
          </a:pr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606600" y="228456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 бывают или мужского, или женского, или среднего рода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домой 1">
            <a:hlinkClick r:id="rId2" action="ppaction://hlinksldjump"/>
          </p:cNvPr>
          <p:cNvSpPr/>
          <p:nvPr/>
        </p:nvSpPr>
        <p:spPr>
          <a:xfrm>
            <a:off x="7596360" y="5300640"/>
            <a:ext cx="725400" cy="72072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740" h="21600">
                <a:moveTo>
                  <a:pt x="0" y="0"/>
                </a:moveTo>
                <a:lnTo>
                  <a:pt x="21740" y="0"/>
                </a:lnTo>
                <a:lnTo>
                  <a:pt x="21740" y="21600"/>
                </a:lnTo>
                <a:lnTo>
                  <a:pt x="0" y="21600"/>
                </a:lnTo>
                <a:close/>
              </a:path>
              <a:path fill="lightenLess" w="21740" h="21600">
                <a:moveTo>
                  <a:pt x="0" y="0"/>
                </a:moveTo>
                <a:lnTo>
                  <a:pt x="21740" y="0"/>
                </a:lnTo>
                <a:lnTo>
                  <a:pt x="20340" y="1400"/>
                </a:lnTo>
                <a:lnTo>
                  <a:pt x="1400" y="1400"/>
                </a:lnTo>
                <a:close/>
              </a:path>
              <a:path fill="darken" w="21740" h="21600">
                <a:moveTo>
                  <a:pt x="21740" y="0"/>
                </a:moveTo>
                <a:lnTo>
                  <a:pt x="21740" y="21600"/>
                </a:lnTo>
                <a:lnTo>
                  <a:pt x="20340" y="20200"/>
                </a:lnTo>
                <a:lnTo>
                  <a:pt x="20340" y="1400"/>
                </a:lnTo>
                <a:close/>
              </a:path>
              <a:path fill="darkenLess" w="21740" h="21600">
                <a:moveTo>
                  <a:pt x="21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0" y="20200"/>
                </a:lnTo>
                <a:close/>
              </a:path>
              <a:path fill="lighten" w="21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0" h="21600">
                <a:moveTo>
                  <a:pt x="10870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lnTo>
                  <a:pt x="17833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1" y="17989"/>
                </a:lnTo>
                <a:lnTo>
                  <a:pt x="5561" y="10800"/>
                </a:lnTo>
                <a:lnTo>
                  <a:pt x="3907" y="10800"/>
                </a:lnTo>
                <a:close/>
              </a:path>
              <a:path fill="darkenLess" w="21740" h="21600">
                <a:moveTo>
                  <a:pt x="13446" y="6448"/>
                </a:move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close/>
              </a:path>
              <a:path fill="darkenLess" w="21740" h="21600">
                <a:moveTo>
                  <a:pt x="9948" y="14299"/>
                </a:moveTo>
                <a:lnTo>
                  <a:pt x="11793" y="14299"/>
                </a:lnTo>
                <a:lnTo>
                  <a:pt x="11793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1" y="10800"/>
                </a:lnTo>
                <a:lnTo>
                  <a:pt x="5561" y="17989"/>
                </a:lnTo>
                <a:lnTo>
                  <a:pt x="9948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85880" y="428760"/>
            <a:ext cx="8358120" cy="50004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значки.jpg"/>
          <p:cNvPicPr/>
          <p:nvPr/>
        </p:nvPicPr>
        <p:blipFill>
          <a:blip r:embed="rId1"/>
          <a:stretch/>
        </p:blipFill>
        <p:spPr>
          <a:xfrm>
            <a:off x="82440" y="285840"/>
            <a:ext cx="72576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285840" y="1357200"/>
            <a:ext cx="392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 на картинку и запишите по два  имени существи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ужск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женского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реднего 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из них одушевлённые, а какие – неодушевлён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cs304405.userapi.com/u406112/-14/x_43f625f1.jpg"/>
          <p:cNvPicPr/>
          <p:nvPr/>
        </p:nvPicPr>
        <p:blipFill>
          <a:blip r:embed="rId2"/>
          <a:stretch/>
        </p:blipFill>
        <p:spPr>
          <a:xfrm>
            <a:off x="6338880" y="1071720"/>
            <a:ext cx="2590920" cy="2307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1" name="Picture 2" descr="http://i013.radikal.ru/1109/fd/4e96c18fed68.png"/>
          <p:cNvPicPr/>
          <p:nvPr/>
        </p:nvPicPr>
        <p:blipFill>
          <a:blip r:embed="rId3"/>
          <a:stretch/>
        </p:blipFill>
        <p:spPr>
          <a:xfrm>
            <a:off x="4143240" y="3000240"/>
            <a:ext cx="393876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4" action="ppaction://hlinksldjump"/>
          </p:cNvPr>
          <p:cNvSpPr/>
          <p:nvPr/>
        </p:nvSpPr>
        <p:spPr>
          <a:xfrm>
            <a:off x="8248680" y="5805360"/>
            <a:ext cx="725400" cy="71928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784" h="21600">
                <a:moveTo>
                  <a:pt x="0" y="0"/>
                </a:moveTo>
                <a:lnTo>
                  <a:pt x="21784" y="0"/>
                </a:lnTo>
                <a:lnTo>
                  <a:pt x="21784" y="21600"/>
                </a:lnTo>
                <a:lnTo>
                  <a:pt x="0" y="21600"/>
                </a:lnTo>
                <a:close/>
              </a:path>
              <a:path fill="lightenLess" w="21784" h="21600">
                <a:moveTo>
                  <a:pt x="0" y="0"/>
                </a:moveTo>
                <a:lnTo>
                  <a:pt x="21784" y="0"/>
                </a:lnTo>
                <a:lnTo>
                  <a:pt x="20384" y="1400"/>
                </a:lnTo>
                <a:lnTo>
                  <a:pt x="1400" y="1400"/>
                </a:lnTo>
                <a:close/>
              </a:path>
              <a:path fill="darken" w="21784" h="21600">
                <a:moveTo>
                  <a:pt x="21784" y="0"/>
                </a:moveTo>
                <a:lnTo>
                  <a:pt x="21784" y="21600"/>
                </a:lnTo>
                <a:lnTo>
                  <a:pt x="20384" y="20200"/>
                </a:lnTo>
                <a:lnTo>
                  <a:pt x="20384" y="1400"/>
                </a:lnTo>
                <a:close/>
              </a:path>
              <a:path fill="darkenLess" w="21784" h="21600">
                <a:moveTo>
                  <a:pt x="2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4" y="20200"/>
                </a:lnTo>
                <a:close/>
              </a:path>
              <a:path fill="lighten" w="2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4" h="21600">
                <a:moveTo>
                  <a:pt x="10892" y="3837"/>
                </a:moveTo>
                <a:lnTo>
                  <a:pt x="13468" y="6448"/>
                </a:ln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lnTo>
                  <a:pt x="17855" y="10800"/>
                </a:lnTo>
                <a:lnTo>
                  <a:pt x="16201" y="10800"/>
                </a:lnTo>
                <a:lnTo>
                  <a:pt x="16201" y="17989"/>
                </a:lnTo>
                <a:lnTo>
                  <a:pt x="5583" y="17989"/>
                </a:lnTo>
                <a:lnTo>
                  <a:pt x="5583" y="10800"/>
                </a:lnTo>
                <a:lnTo>
                  <a:pt x="3929" y="10800"/>
                </a:lnTo>
                <a:close/>
              </a:path>
              <a:path fill="darkenLess" w="21784" h="21600">
                <a:moveTo>
                  <a:pt x="13468" y="6448"/>
                </a:move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close/>
              </a:path>
              <a:path fill="darkenLess" w="21784" h="21600">
                <a:moveTo>
                  <a:pt x="9969" y="14299"/>
                </a:moveTo>
                <a:lnTo>
                  <a:pt x="11814" y="14299"/>
                </a:lnTo>
                <a:lnTo>
                  <a:pt x="11814" y="17989"/>
                </a:lnTo>
                <a:lnTo>
                  <a:pt x="16201" y="17989"/>
                </a:lnTo>
                <a:lnTo>
                  <a:pt x="16201" y="10800"/>
                </a:lnTo>
                <a:lnTo>
                  <a:pt x="5583" y="10800"/>
                </a:lnTo>
                <a:lnTo>
                  <a:pt x="5583" y="17989"/>
                </a:lnTo>
                <a:lnTo>
                  <a:pt x="9969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User</cp:lastModifiedBy>
  <dcterms:modified xsi:type="dcterms:W3CDTF">2014-05-25T17:51:29Z</dcterms:modified>
  <cp:revision>325</cp:revision>
  <dc:subject/>
  <dc:title>Слайд 1</dc:title>
</cp:coreProperties>
</file>